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7"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1"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B823-CC21-40FA-9887-B27187132476}"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out </a:t>
            </a: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9952-E059-4671-9142-4A31401EDB8F}" type="slidenum">
              <a:rPr b="0" lang="en-GB" sz="1200" spc="-1" strike="noStrike">
                <a:solidFill>
                  <a:srgbClr val="000000"/>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D565-D681-476A-A704-12EC545E7CEC}"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4195-58F9-4FC4-B500-03F8D226DDC5}"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229A-7481-4D19-B9CD-C9D41E5FCF55}"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3CCF-36F0-4C32-97DA-7041E26FC1F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FA94-4C46-42B3-B8E0-57FE509C672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644E-069F-4F17-BFBE-CBADA91AB29D}"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B2E3-13C8-4D51-ACB2-67E9B5630B29}"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DD6A-9ABA-4528-8909-F9AEAF1078E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3117-9C38-42B9-982D-F4369C7CA42C}"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FA8A-3F50-4316-95A2-CFBA1E7EFF12}"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041C-9503-4320-A1C9-EF7A3634FF67}"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D797-6434-4D4B-B931-51C7DC62AAD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9BE9-18FE-4A54-A4EE-55831D17626B}"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CF12-2A9C-4840-97C4-D3AA12221C19}"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CFD8A-1CAA-45A6-814A-736C0204A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01626-1933-4631-9F25-BC3B392B2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92947D-DB78-4313-A1CA-63F4886B4C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13E882-9DC6-4754-8DAF-D571D47C98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565921-CA7A-42C0-8ED8-76BCC4BD60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D153E5-51C1-4B47-BC1B-A74920E21C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8CC716-56A2-4F1B-B9B2-82323751DC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66A153-A13C-452F-AC65-9D13506743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879ECF-D5FB-467C-A04A-491413BAAD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C585D7-6ED7-489B-B0AF-5F8B3BB1CF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D217D4-3183-4F2B-A74F-D62D05E5DC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342142-FF44-43E2-9695-BD005A061A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34E9F-A947-46EE-A640-599BC3BC5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3B4243-CB93-4FFD-97EA-5BF0F3433C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A0DE88-1700-4490-9B7E-34082AE1F2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7660ED-D9D9-40E6-A31F-68AE484075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F7B381-C269-4EC9-9489-798C058708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E30CDC-1B2A-4B4C-AD8E-12394132DB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7064B2-8345-489E-B23A-9209F9660A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6F86A8-526C-4D2C-9870-AD38C00CF9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48EA6C-8438-42DF-A36B-C1F18B687B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AE5798-3BC8-49F1-902F-EAB99037F0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3EA504-DA51-4885-92B1-578C2DD4C4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7393D-FE5D-4A12-A383-DAE4436FB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E920A1-4784-4668-9847-DE88127106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F3F0B4-356F-49BF-BCF4-A5ADC062E5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DE2791-FB72-4F27-A9D7-8FBBFD1AFE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4AB16B-196C-4AB7-BD8E-F8FFBBB3A2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85FE8E-ACD3-4316-A991-26FF2881B4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38DD87-567F-42C6-A7A8-60925AE5B2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A85208-2F1F-4506-B479-B3A079C185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CCABB7-B484-4B87-B46C-BCA8B52F7F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B0FDF8-02D4-4BDE-91C5-39950A2D24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2AB1A0-2D03-400D-88CD-7B5A7A8282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582969-682A-4BBD-AD3E-DF037F3B0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1F72FB-D0D8-4E27-8135-650B9BF4DD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909169-2F3E-428D-B3A5-01FBECCD17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F90F74-B977-453D-B06B-1E5402506B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DB4307-5B83-49FF-90B0-E19E1B28DA2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6DC372-1931-428C-BE27-9858D318D4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86A999-FFA3-4046-957B-2EDD97732E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8309E9-0EF6-4FB6-B056-F5447025E6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AC7D2F-0D2E-4808-A6FA-902837940F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8287AD-575A-4EA2-9370-54C859E206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0EA3C8-36BF-418F-B6B4-D6EABAF73E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1B3E3-B1AB-4F03-930F-7CFE202F0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92C612-E513-44DE-B9A3-E2B15502A1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EC206F-AE98-4BD1-A06B-B0A16C8F49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2A007E-3ABA-400E-A321-1057D910A1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87729DE-2C03-4F4C-B6B9-8E617F1376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295F3B-23DB-421C-890D-27641E7027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945A929-CB71-45F2-AA07-22F6DC6336C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D1F3EA-00FB-49F8-93A4-E02DDFEC05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DF7307-8DEF-4DB5-909A-3C73159315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3FAA9F-C0FA-4FFD-814D-A459A575CD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9FA09A-CB5F-44D6-83E5-8B4A8ACCD3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CC95D-2419-44E6-A3E8-CF7BBD64C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9B10F3-263A-42AD-93AD-C9A49B5BB2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6D2A8F-E303-4801-92E1-FF1543E478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88FDE4-6824-4BDF-87B7-0723027237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052288-2CBB-421A-A16E-44E76F3197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6BD57A-6213-401B-B590-F0790EDF33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CB49660-34EC-4335-B733-4E37F25E98A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20769F5-3AA4-4932-B269-2AA343C8C6C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D98A13-FFD0-4869-AE05-27E99818549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18904E-231C-4372-BC87-C1432EDD2EB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3D2A34-AA63-4B8D-A7FE-B456C7A8799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A49D3-2366-4DB7-9182-D60AF14F8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1DC4AC0-3210-43E4-908B-B487EABE23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14CD99-0B37-4182-912C-3B9271E80D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F14010-F8D5-47A8-B1FE-2544C55398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99135C-B9D2-4B75-A2E3-1E99C98EB9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D3389C-8AF0-4BA0-91E3-1AB4CFEA90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7FD33D-B27E-4F46-AFA2-A88C265F4B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AFA692-990B-4DDC-B2C2-41DE143301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E9E080F-F6E2-4B7B-BE11-6FBDED19CC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F380D41-7EF3-45AA-A1EE-6063F4896BF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ECDF229-51BA-4238-A911-2B5DD59BCC6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D4E8D-98C4-4526-B81A-B46704C96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2B295F-7B23-484C-A8CA-518DFE8CB41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A721F92-CB4C-47B7-A69E-6BB6EB661D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940B6CB-5CFF-429B-89FA-A36629BB44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4D68BD-4915-4D08-ABD0-6930DD06ACC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976100-C389-4F11-82D1-798E5ADCD71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9733F6-7ED3-4E1A-9BE0-DDEBD9C928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0EDBE8-C251-4148-9A08-DB21F677739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9B852C-572D-434C-8558-CA05BB53AD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97EDF5A-B504-4644-AB72-A6276C8FD4D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BF92A0C-C5BE-4D32-A91B-3E713AE0974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4E70F-035F-45D1-B6EA-F99E3EC80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4F88C11-063E-4784-8B81-02AC3702B7B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651248E-B20E-4D36-AE5A-826E531BAA6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D10BD8F-6204-495F-8A34-18A3956AA7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FB0D4A1-B9CE-4D6F-A378-DABC5AC5D03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A90270-203C-4EA3-BF5F-1993754848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B890A7-F063-41D4-AC0A-C93E821C2D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837244-BAAF-4EF1-9FAA-3F04EFA5E3D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18A52DE-328C-4C89-B13E-CD66F1DE4C1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6F8512-8DEC-4504-B7FD-CEA9E5990E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C5B42D-77B2-4F2A-B2E8-712198AA90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8B222-6641-4001-A056-739B921C6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E255C3B-DCC8-42D3-B672-5527EA4E6CE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4487CCF-F6CD-491E-9BA0-FA7E2824860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56A32B3-9268-46BB-9D7B-C2E6812E5D0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E19FDD3-576B-4B61-9900-9F2C0BB244B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0FC330-2A9A-4613-B31F-84EBA87A385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D7DBEDB-196A-4371-973B-2DA03F2C027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C79666-115F-44DF-8979-5426D77B7B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EB0BE33-15FF-4053-BAFA-7EFCA7EB96B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EA589DA-6A7E-4750-AC51-A4056E519CE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4260AA-11F0-420A-A4BA-AC12ECBB78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302EB-1643-4514-AC90-8FD8390D6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17835-4071-4017-BA59-892DF6CCD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1435F2-6A61-4879-8468-CD8B99CAE04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223363-FD3C-46F3-ACC7-C0537046991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EA3DC88-BF57-4447-8833-69195AF877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23FDD8D-C638-4A72-A572-C1B6176ED40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AF2C4C1-4B31-49BE-98C1-BCA4FDAE3E8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6D6F42C-1FFE-4B50-9F68-B6421B37D7B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65FD31F-3363-4D5F-AFB9-7695930AE36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B2FE402-A86D-48F9-BE3F-ED79612131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8273BB0-B2BE-4E70-B299-DB91D222841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4A718A2-5CC9-4170-B35E-F998C0B7DA6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FE8FE-6C60-42AE-BDD9-38695681F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3D27FF4-05B3-4E03-8DBE-6E56C1F4197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5CF399D-6D5E-49DF-9C19-EF13938F79F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7F838BC-7123-481B-9D1D-712581F54B7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F48DAD-DC6B-48B8-A2BB-D81B6D4C511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D83AE24-80B2-4689-97DB-8974BD4496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9B3314E-784E-4237-BC0D-1309FBB0B5A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B0E40BE-CE2E-430F-A149-C3E5EA908FB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196BA67-65A0-4CF8-B3A4-5B4A5650DCA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6DC26DF-B21D-4DCE-96A2-C803AE053EF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112AC7F-B247-456F-B00E-BB551A20CFE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E0BC6-6087-4161-AE57-55B97F896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B1C84EE-AD44-4759-9EA4-9FC0D974533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0519DB7-D2FF-40E4-9BAF-3971EFB4446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C2DA6E0-27B0-43CB-9F2D-24CE59A97C0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649B9D-39CC-4E32-BFFC-9A0B0089D2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989D0F5-ADE5-4E44-A665-770D52BD2EF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AD4D510-BCDB-48A0-A337-E030091FD0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4041A54-3F92-48B5-9D2C-481005DE6F9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E14FB99-7259-4AAE-AA5D-23324E76FF8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6AFEEC8-2440-40A5-85B1-60AC8B8267E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4C5CE75-870B-4D5E-99B4-53BDEF5E9C0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BD935-A53E-471A-8B7C-F8D7A4F44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15809DA-5E4D-4466-ADE2-06EF2B84D67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FCEE2D6-E09F-4DBB-94CF-3E12BEE8D2C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8894A84-18BC-480E-B2C9-74CD17AD542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FFF14DE-A927-4707-A981-2168647DE2C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F5C74D8-7875-4AC6-9210-AD90B9DB42B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C6B2462-4C2D-4160-9B8D-546A7951C34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552AF86-2090-4AE9-A999-C9D9E3EE14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484866B-18BB-410A-90EF-76B3A1594BF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3AAE504-ADAE-425D-ACAC-059C3640966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79F4388-E08C-467E-838E-5C5CE100189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C5981-7E84-4BB4-B5CB-641017351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4FA6529-FBBC-4563-BEC4-192649E4968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58789ED-151B-47BC-9889-E9A4FF9F3C5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6332C05-5AE2-4C40-9C54-1567FC79E5D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F9BA1F2-2FCB-493B-9012-48366352A6F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4FE7512-382B-4B48-9C39-D94360DA674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28D8A13-1A0C-41B5-8AD2-4C9A2A3CA9B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B59F8CA-6200-493F-A52D-95DF28C89BF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7FDC052-2D82-4DC2-AA06-DF40DA145D7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5E28347-DDD5-4662-9F5D-A2322D4B3F9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42E66D7-593C-4DF2-8100-A04431DA922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8EB1B1-333B-4330-898D-EA19D434D7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8C364F4-2538-41DC-AA74-5491F6E4E0D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02CE177-076F-43F5-A319-AF48A89D9DD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18E1319-DC59-4449-B132-B11B11B23C9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7C8FB2A-D664-416B-9ECB-44B92F9CB46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2B4B6CB-D0B4-4E19-AD51-A59AE31EA56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F47CBE2-9016-4D44-8E9F-E1566A82A9F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03170F8-8630-4563-BB87-8337BB5801F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D1FD8D4-5115-4EE1-A07F-0A337DFED88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19BF299-5FE4-4F6C-9E37-85F4AF97A12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E009C7D-4C6E-4D42-91CF-B5118A18AB1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E069C-9B13-4812-A460-D2B55FED5E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D6E2C45-D6F8-4478-86CA-87120A78404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874605F-FD5E-4F51-84B5-37E3A012041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D8057B4-AB50-40EB-80AA-B31EEE69BB0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BCAA539-C284-454A-AA69-24E7EE10F00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1950F25-D416-43FE-B7F7-EBF0FCA90D4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111DC9F-84AE-4AB0-AD4B-7D7F85C4060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78F4554-B15C-460A-ACA5-6ED61A5D1E5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17275D1-5485-4791-BDCE-9F5B59F8F19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36BB317-0934-4745-9BCB-15172827AAF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2952F29-D556-4A5B-BA8C-E24330FE0A3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5305D1-0E6D-4179-B03E-70B164AA5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A9A3D04-1284-481B-BBA3-897FBCDA528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099634D-9E20-4E7B-991D-ECA32742E31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6C50FDB-811C-4C43-81BD-07F2F36915D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D11D68C-7597-4886-A825-868725D0690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D0D6141-2717-4AB1-9270-8174715B16A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6198A2D-8C60-45DD-B59F-47588F1170E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A478C9B-B524-4246-BC62-7B2D3345A84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0E1FBD6-6D6E-49E7-8ED3-7544F88CFF3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196C7DC-813D-4196-8744-7500F0D83E7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A4DFD5D-20F1-4E3E-80F7-F2B0125AC4C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D6BEA1-F5C7-4EAD-B3A0-62ACBE21CE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B93F6D4-CBB8-4038-9D50-73961F50BC7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F7709A2-C946-45BB-A67D-E69811947DE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0F538D9-5147-4F6E-9DE7-91563478F51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58CCC54-6796-40AB-B585-B6F66D2E7D1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AA6E33D-E71C-4FF1-B75C-03E207BC416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7B20429-D48B-4F6C-92A9-EB9C577C5FB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0637161-9A8F-4301-8810-00EA1F443A4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50076E5-6440-4DA4-9D33-17F5139ED69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A87CDF2-9217-46CA-865F-18F37E98129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4A32CFC-8700-4A72-9EFE-AC034550D78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F8FB2-D2E1-4C6E-8F8D-333ED67E29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4695A51-B2DE-41CB-B88E-E2FAE12BE03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BC46A27-10D3-40C4-90B1-E9642F948D7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ADA2CA3-78FE-4A60-B5FC-ED61EBA8238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853CA44-D7A3-4B8E-883F-A49CA51CD69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5B22A31-F180-4E6E-9123-A3DCB3EA75C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7131BA3-8203-4854-BA6F-D9FBF938A98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04F1F28-FE71-4F0C-AC0B-A8013754159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D5EC37A-2DEB-42D5-B4E5-C47B0447142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4A2A3DC-7960-429E-B271-BDAEC272BF4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FDB2905-47EF-4BAC-8F40-8B75DD000C3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EE825-AFB3-4999-A8FA-604BB72A2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BC07D-28BE-4030-9AF2-D0481C532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352B7F0-2BF6-4013-AB8C-19D5B6E7B0E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8ECEA1-7B18-43E2-AAB5-4A643B20F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479AB-BC4B-4EDA-AE55-93F985B61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5F72B-D3D3-4EC9-B14A-FFC4524AF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16F366-B5D4-41BB-A8E9-D622EBE504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FE5A4C-1CF4-4C53-9D1D-03E14913DB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9805A4-6A32-4DF7-BB6A-E7072A045D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87AE54-A8B7-4A00-8A6E-0F1EB4FE90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4BDC71-C839-47BB-84CB-C40C418B1D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AFF68-DF23-414B-A939-249E8BAC1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F7DAE-1315-46D5-AEC1-79CD1BE71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D0DA19-CD81-49A4-A6A6-12F02F61F9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2D374-6D8B-453E-B819-8FB03C371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D0872B-5789-4F11-A8B6-17BC061E5B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D7805A-3BEC-4A12-8A49-BA1916A10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FE6020-ACDA-4A61-85F9-5144D3CEA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34112-B322-40A0-A510-39C5CFFA5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1993E1-D0D5-48DC-876C-924AF569CA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9C56C6-9168-4C03-93F2-FC41514783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AC6FDC-8FB7-46A6-803C-A0C327A904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537F82-DD66-4B83-AF1C-F11FC4A7D2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C5D7-EDD8-4EEA-A9A6-2AEF5AC2B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01D76-D43D-437A-81DE-B5887E7D2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4FE184-9F60-489E-A570-28D3A98B80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513547-8063-4739-8D20-97B9527AC4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75D5CE-9479-4483-8C44-A5E1E71B24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F3132F-632A-4B4B-8CEF-E2A0183867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CACC5-4D76-4239-9C2A-F647A3991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CEB210-C3BD-4907-B489-EE9F06BBD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9A0ADF-B224-4956-8BAD-71EA8D292F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D818BC-2C6E-44EA-A90F-1D106E980F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C92EB0-EC63-4388-9353-F7C89D62AE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3E43E-CB5B-4834-B581-13B473114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43C728-0630-47BF-B7BD-02FBEC3FC4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99C0B5-297E-4E45-8C86-2DD3B7543A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0F0AAA-45E3-4B91-A2C6-CB500A3596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95B1B1-9F61-424F-9775-2D5EEE8353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057824-2E01-4D09-92B2-46945B6E66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515BB9-71B0-479D-AA3F-C4221F583B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759704-8211-4FF1-A796-A97C8F0659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51F163-896A-4F2C-B579-964F83129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811385-F5E9-442B-B81F-908E18831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730403-7086-4754-AF4B-CE59AE7BD8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F5C54-4E90-4E7F-BB6C-D8E2711B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AD9E37-79D1-4913-9CD2-523AE74E95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471A6B-2A09-4C81-ADFE-4C051A848C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EA2901-804F-48CB-9AFC-E9B8BC2BA4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6AA0DE-387C-4ABD-A633-25758CA7CB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A2A839-0AC9-4A76-9280-9A954F6342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94AF1D-A8A1-4A50-877A-DED5529554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B239EE-B686-4585-BAD4-1933C353D7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F31C5D-DBBF-4D6C-836F-4FDC1B9B65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5F5106-7F76-4CDE-BCEA-670696497E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43A763-3178-4D13-8A71-98AB9C6E43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7A1A8-080D-4E67-A958-A9A21BACF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1D638-A653-420D-9D49-0E8D8E301B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69C487-420D-471D-A382-16ACE5DD77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14199D-A594-4102-93A6-19F5A7B2EA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EE635F-5D14-46F1-8D16-CBC438B686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7E8DC1-FB86-42C2-BF84-54B401A4CC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3EA873-D824-40AA-9AD7-9969B0554A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5EA539-75F7-4FC6-B7FB-F3D02323AB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B015FF-5697-4259-A113-75BFB25D61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91C10B-23AE-488D-AB2C-5A903560CE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F8082B-6899-4F9E-835B-9C31611D98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A2E55-7CBB-4DFC-A83A-25B21036D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A88C3B-EA46-48F5-AE2F-BA2FBD039C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D7C099-5802-45F0-B491-13547D57AE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FE4E30-CECF-4360-B386-3890A9F8FD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162EA-7743-4E46-BCB8-ECA2B9A3A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C0A2F1-A93F-4CA1-9CE8-A8CBB63378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DA682F-9577-482B-B721-624814CFF2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A74D22-8B83-4137-80BE-09B1B69DED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99F4EA-BEF6-46DA-AB46-BA79F1FAF8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858D67-B1E6-4AC0-BA20-14C52A7471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D07368-FE36-46E9-9C21-435BA76C1B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FFFC-3AAF-46D1-8150-0F88FB0D797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D23F-375B-4DAC-A7AC-ACC3E0F4E4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6643-A5AD-4B7B-BB6C-FF9571D2D3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1C90-5F39-4ACA-AD4C-1C89999356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0552-22EF-40BA-A82B-46CD095CBF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150D-5B40-459E-B920-F7C22566FE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BD9E-6FED-48C0-9D7A-04042E925C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3656-BB03-49B4-B27E-AE922B15A4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18EF-CEAE-41FC-90D0-382D561545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0AD7-86DF-4C17-B12C-0BD99DFA34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088F-9BAA-4C84-A572-254F3F4140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97AF-EDF2-4F43-BB97-7979DDF11DE6}"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E433-472B-43E5-A496-CCBCDF06FE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AC7C-6FC0-4156-9C31-9185E112BA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3613-C780-40B8-AB8D-4CEA1AB81E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2078-8FE7-4269-8533-BA34FC2CCE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6383-16B6-445D-A745-63C8AA0DD3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99C4-0E0A-4B0A-91A7-EA037A8DDB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612B-6152-4BDB-BF40-FF5665F346F4}"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775A-D0E2-479A-A987-7A33412A93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2028-3E76-404A-BEE2-412778DE94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3EB3-FA6E-4B29-B8E8-D75CE67525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1556-5134-4C06-B6E5-81A4420E8F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3BA6-ECC7-4A65-8E32-4677500A3A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E8D4-FF5B-4379-841A-CEB418CF96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 Box 2"/>
          <p:cNvSpPr/>
          <p:nvPr/>
        </p:nvSpPr>
        <p:spPr>
          <a:xfrm>
            <a:off x="152280" y="152280"/>
            <a:ext cx="2590920" cy="2163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A:</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There were terrible accidents. Sometimes the children’s arms and hands were caught in the machinery; in many instances the muscles and the skin is stripped down to the bone, and in some instances a finger or two might be lost. </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Comment from a Doctor in Manchester</a:t>
            </a:r>
            <a:endParaRPr b="0" lang="en-US" sz="1200" spc="-1" strike="noStrike">
              <a:solidFill>
                <a:srgbClr val="ffffff"/>
              </a:solidFill>
              <a:latin typeface="Arial"/>
            </a:endParaRPr>
          </a:p>
        </p:txBody>
      </p:sp>
      <p:sp>
        <p:nvSpPr>
          <p:cNvPr id="1033" name="Text Box 3"/>
          <p:cNvSpPr/>
          <p:nvPr/>
        </p:nvSpPr>
        <p:spPr>
          <a:xfrm>
            <a:off x="2895480" y="142920"/>
            <a:ext cx="1447920" cy="238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B: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I have seen a factory owner with a horse whip standing outside the mill. He punished children who came lat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airbrother, an overlooker, interviewed in 1819</a:t>
            </a:r>
            <a:endParaRPr b="0" lang="en-US" sz="1200" spc="-1" strike="noStrike">
              <a:solidFill>
                <a:srgbClr val="ffffff"/>
              </a:solidFill>
              <a:latin typeface="Arial"/>
            </a:endParaRPr>
          </a:p>
        </p:txBody>
      </p:sp>
      <p:sp>
        <p:nvSpPr>
          <p:cNvPr id="1034" name="Text Box 4"/>
          <p:cNvSpPr/>
          <p:nvPr/>
        </p:nvSpPr>
        <p:spPr>
          <a:xfrm>
            <a:off x="4495680" y="152280"/>
            <a:ext cx="4419720" cy="1144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C:</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Very often the children are woken at 4am.  They work for 16hours with little breaks, until they go home at night to their parents.</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Richard Oastler, interviewed in 1832</a:t>
            </a:r>
            <a:endParaRPr b="0" lang="en-US" sz="1200" spc="-1" strike="noStrike">
              <a:solidFill>
                <a:srgbClr val="ffffff"/>
              </a:solidFill>
              <a:latin typeface="Arial"/>
            </a:endParaRPr>
          </a:p>
        </p:txBody>
      </p:sp>
      <p:sp>
        <p:nvSpPr>
          <p:cNvPr id="1035" name="Text Box 5"/>
          <p:cNvSpPr/>
          <p:nvPr/>
        </p:nvSpPr>
        <p:spPr>
          <a:xfrm>
            <a:off x="2895480" y="3011400"/>
            <a:ext cx="6096240" cy="3844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omic Sans MS"/>
                <a:ea typeface="Times New Roman"/>
              </a:rPr>
              <a:t>Questions:</a:t>
            </a:r>
            <a:endParaRPr b="0" lang="en-US" sz="12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A </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accidents does it say happened in the factories?</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does this say about the conditions the children worked i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B</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3. How were the children punishe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4. What words would you use to describe this treatment? (e.g. Cruel)</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C</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5. How many hours were worked each day and what do you think about this?</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6. Describe what you see in the pictur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7. What jobs did children do?</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Source 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8. Why does John Fielden say Factory Work is unsuitable for childre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9. What affects do you think factory work could have on a child’s growth?</a:t>
            </a:r>
            <a:endParaRPr b="0" lang="en-US" sz="1100" spc="-1" strike="noStrike">
              <a:solidFill>
                <a:srgbClr val="ffffff"/>
              </a:solidFill>
              <a:latin typeface="Arial"/>
            </a:endParaRPr>
          </a:p>
        </p:txBody>
      </p:sp>
      <p:sp>
        <p:nvSpPr>
          <p:cNvPr id="1036" name="Text Box 9"/>
          <p:cNvSpPr/>
          <p:nvPr/>
        </p:nvSpPr>
        <p:spPr>
          <a:xfrm>
            <a:off x="152280" y="2438280"/>
            <a:ext cx="2514600" cy="4071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D: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Illustration of scavengers and piecers at work (1840)</a:t>
            </a:r>
            <a:endParaRPr b="0" lang="en-US" sz="1200" spc="-1" strike="noStrike">
              <a:solidFill>
                <a:srgbClr val="ffffff"/>
              </a:solidFill>
              <a:latin typeface="Arial"/>
            </a:endParaRPr>
          </a:p>
        </p:txBody>
      </p:sp>
      <p:pic>
        <p:nvPicPr>
          <p:cNvPr id="1037" name="Picture 10" descr="http://www.powerinthelandscape.co.uk/images/education/Piecers_fromTrollope;s.jpg"/>
          <p:cNvPicPr/>
          <p:nvPr/>
        </p:nvPicPr>
        <p:blipFill>
          <a:blip r:embed="rId1"/>
          <a:stretch/>
        </p:blipFill>
        <p:spPr>
          <a:xfrm>
            <a:off x="228600" y="2819520"/>
            <a:ext cx="2324160" cy="3017880"/>
          </a:xfrm>
          <a:prstGeom prst="rect">
            <a:avLst/>
          </a:prstGeom>
          <a:ln w="0">
            <a:noFill/>
          </a:ln>
        </p:spPr>
      </p:pic>
      <p:sp>
        <p:nvSpPr>
          <p:cNvPr id="1038" name="Text Box 11"/>
          <p:cNvSpPr/>
          <p:nvPr/>
        </p:nvSpPr>
        <p:spPr>
          <a:xfrm>
            <a:off x="4572000" y="1447920"/>
            <a:ext cx="4419720" cy="1334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Factory work is unfit for children. Cooped up in a heated atmosphere, without proper exercise, remaining in one position for a series of hours, one set or system of muscles alone called into activity. It affects the physical growth of a child</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ielden, a Factory Own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2" descr=""/>
          <p:cNvPicPr/>
          <p:nvPr/>
        </p:nvPicPr>
        <p:blipFill>
          <a:blip r:embed="rId1"/>
          <a:stretch/>
        </p:blipFill>
        <p:spPr>
          <a:xfrm>
            <a:off x="285840" y="1000080"/>
            <a:ext cx="2286000" cy="3587760"/>
          </a:xfrm>
          <a:prstGeom prst="rect">
            <a:avLst/>
          </a:prstGeom>
          <a:ln w="0">
            <a:noFill/>
          </a:ln>
        </p:spPr>
      </p:pic>
      <p:sp>
        <p:nvSpPr>
          <p:cNvPr id="1066" name="TextBox 2"/>
          <p:cNvSpPr/>
          <p:nvPr/>
        </p:nvSpPr>
        <p:spPr>
          <a:xfrm>
            <a:off x="214200" y="21420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Life in the factory... Punishments.</a:t>
            </a:r>
            <a:endParaRPr b="0" lang="en-US" sz="2400" spc="-1" strike="noStrike">
              <a:solidFill>
                <a:srgbClr val="ffffff"/>
              </a:solidFill>
              <a:latin typeface="Arial"/>
            </a:endParaRPr>
          </a:p>
        </p:txBody>
      </p:sp>
      <p:sp>
        <p:nvSpPr>
          <p:cNvPr id="1067" name="TextBox 3"/>
          <p:cNvSpPr/>
          <p:nvPr/>
        </p:nvSpPr>
        <p:spPr>
          <a:xfrm>
            <a:off x="285840" y="4857840"/>
            <a:ext cx="228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rah Carpenter, factory worker, Derbyshire, 1849</a:t>
            </a:r>
            <a:endParaRPr b="0" lang="en-US" sz="2400" spc="-1" strike="noStrike">
              <a:solidFill>
                <a:srgbClr val="ffffff"/>
              </a:solidFill>
              <a:latin typeface="Arial"/>
            </a:endParaRPr>
          </a:p>
        </p:txBody>
      </p:sp>
      <p:sp>
        <p:nvSpPr>
          <p:cNvPr id="1068" name="TextBox 4"/>
          <p:cNvSpPr/>
          <p:nvPr/>
        </p:nvSpPr>
        <p:spPr>
          <a:xfrm>
            <a:off x="2857680" y="100008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e were always locked up out of mill hours, for fear any of us should run away. One day the door was left open. Charlotte Smith, said she would be ringleader, if the rest would follow. She went out but no one followed her. The master found out about this and sent for her. There was a carving knife which he took and grasping her hair he cut if off close to the head. They were in the habit of cutting off the hair of all who were caught speaking to any of the lads. This head shaving was a dreadful punishment. We were more afraid of it than of any other, for girls are proud of their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Box 1"/>
          <p:cNvSpPr/>
          <p:nvPr/>
        </p:nvSpPr>
        <p:spPr>
          <a:xfrm>
            <a:off x="4357800" y="4179960"/>
            <a:ext cx="4500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alibri"/>
                <a:ea typeface="Arial"/>
              </a:rPr>
              <a:t>*TASK*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Put the sub-heading “Punishment” in your jotter.</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rite a short paragraph describing the types of punishment carried out to factory workers.</a:t>
            </a:r>
            <a:endParaRPr b="0" lang="en-US" sz="2400" spc="-1" strike="noStrike">
              <a:solidFill>
                <a:srgbClr val="ffffff"/>
              </a:solidFill>
              <a:latin typeface="Arial"/>
            </a:endParaRPr>
          </a:p>
        </p:txBody>
      </p:sp>
      <p:sp>
        <p:nvSpPr>
          <p:cNvPr id="1070" name="Rectangle 2"/>
          <p:cNvSpPr/>
          <p:nvPr/>
        </p:nvSpPr>
        <p:spPr>
          <a:xfrm>
            <a:off x="4286160" y="428760"/>
            <a:ext cx="4572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hen I was seven years old I went to work at Mr. Marshalls factory at Shrewsbury. If a child was drowsy, the overlooker touches the child on the shoulder and says, "Come here". In a corner of the room there is an iron cistern filled with water. He takes the boy by the legs and dips him in the cistern, and sends him back to work.</a:t>
            </a:r>
            <a:endParaRPr b="0" lang="en-US" sz="2400" spc="-1" strike="noStrike">
              <a:solidFill>
                <a:srgbClr val="ffffff"/>
              </a:solidFill>
              <a:latin typeface="Arial"/>
            </a:endParaRPr>
          </a:p>
        </p:txBody>
      </p:sp>
      <p:pic>
        <p:nvPicPr>
          <p:cNvPr id="1071" name="Picture 2" descr=""/>
          <p:cNvPicPr/>
          <p:nvPr/>
        </p:nvPicPr>
        <p:blipFill>
          <a:blip r:embed="rId1"/>
          <a:stretch/>
        </p:blipFill>
        <p:spPr>
          <a:xfrm>
            <a:off x="714240" y="428760"/>
            <a:ext cx="2714760" cy="3906720"/>
          </a:xfrm>
          <a:prstGeom prst="rect">
            <a:avLst/>
          </a:prstGeom>
          <a:ln w="0">
            <a:noFill/>
          </a:ln>
        </p:spPr>
      </p:pic>
      <p:sp>
        <p:nvSpPr>
          <p:cNvPr id="1072" name="TextBox 4"/>
          <p:cNvSpPr/>
          <p:nvPr/>
        </p:nvSpPr>
        <p:spPr>
          <a:xfrm>
            <a:off x="500040" y="4643280"/>
            <a:ext cx="307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muel Downe, born in Shrewsbury in 180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119" dur="2000"/>
                                        <p:tgtEl>
                                          <p:spTgt spid="1069">
                                            <p:txEl>
                                              <p:pRg st="0" end="0"/>
                                            </p:txEl>
                                          </p:spTgt>
                                        </p:tgtEl>
                                      </p:cBhvr>
                                    </p:animEffect>
                                  </p:childTnLst>
                                </p:cTn>
                              </p:par>
                              <p:par>
                                <p:cTn id="120" nodeType="withEffect" fill="hold" presetClass="entr" presetID="10">
                                  <p:stCondLst>
                                    <p:cond delay="0"/>
                                  </p:stCondLst>
                                  <p:childTnLst>
                                    <p:set>
                                      <p:cBhvr>
                                        <p:cTn id="12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22" dur="2000"/>
                                        <p:tgtEl>
                                          <p:spTgt spid="1069">
                                            <p:txEl>
                                              <p:pRg st="1" end="1"/>
                                            </p:txEl>
                                          </p:spTgt>
                                        </p:tgtEl>
                                      </p:cBhvr>
                                    </p:animEffect>
                                  </p:childTnLst>
                                </p:cTn>
                              </p:par>
                              <p:par>
                                <p:cTn id="123" nodeType="withEffect" fill="hold" presetClass="entr" presetID="10">
                                  <p:stCondLst>
                                    <p:cond delay="0"/>
                                  </p:stCondLst>
                                  <p:childTnLst>
                                    <p:set>
                                      <p:cBhvr>
                                        <p:cTn id="124"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25"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286160" y="1000080"/>
            <a:ext cx="45720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When I was a surgeon in the infirmary, accidents were very often admitted to the infirmary, through the children's hands and arms having being caught in the machinery; in many instances the muscles, and the skin is stripped down to the bone, and in some instances a finger or two might be lost.</a:t>
            </a:r>
            <a:endParaRPr b="0" lang="en-US" sz="2800" spc="-1" strike="noStrike">
              <a:solidFill>
                <a:srgbClr val="ffffff"/>
              </a:solidFill>
              <a:latin typeface="Arial"/>
            </a:endParaRPr>
          </a:p>
        </p:txBody>
      </p:sp>
      <p:pic>
        <p:nvPicPr>
          <p:cNvPr id="1074" name="Picture 2" descr=""/>
          <p:cNvPicPr/>
          <p:nvPr/>
        </p:nvPicPr>
        <p:blipFill>
          <a:blip r:embed="rId1"/>
          <a:stretch/>
        </p:blipFill>
        <p:spPr>
          <a:xfrm>
            <a:off x="571680" y="571680"/>
            <a:ext cx="3228840" cy="3286080"/>
          </a:xfrm>
          <a:prstGeom prst="rect">
            <a:avLst/>
          </a:prstGeom>
          <a:ln w="0">
            <a:noFill/>
          </a:ln>
        </p:spPr>
      </p:pic>
      <p:sp>
        <p:nvSpPr>
          <p:cNvPr id="1075" name="TextBox 4"/>
          <p:cNvSpPr/>
          <p:nvPr/>
        </p:nvSpPr>
        <p:spPr>
          <a:xfrm>
            <a:off x="357120" y="4286160"/>
            <a:ext cx="3429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alibri"/>
                <a:ea typeface="Arial"/>
              </a:rPr>
              <a:t>Dr. Michael Ward was a doctor in Manchester was 30 years during the time of the Industrial Revolution.  He faced many cases like the ones he describes oppo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
          <p:cNvSpPr/>
          <p:nvPr/>
        </p:nvSpPr>
        <p:spPr>
          <a:xfrm>
            <a:off x="357120" y="428760"/>
            <a:ext cx="4572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Question: Do more accidents take place at the latter end of the day? </a:t>
            </a:r>
            <a:br>
              <a:rPr sz="2400"/>
            </a:br>
            <a:br>
              <a:rPr sz="2400"/>
            </a:br>
            <a:r>
              <a:rPr b="1" i="1" lang="en-GB" sz="2400" spc="-1" strike="noStrike">
                <a:solidFill>
                  <a:srgbClr val="ffffff"/>
                </a:solidFill>
                <a:latin typeface="Calibri"/>
                <a:ea typeface="Arial"/>
              </a:rPr>
              <a:t>Answer: I have known more accidents at the beginning of the day than at the later part. I was an eye-witness of one. A child was working wool, that is, to prepare the wool for the machine; but the strap caught him, as he was hardly awake, and it carried him into the machinery; and we found one limb in one place, one in another, and he was cut to bits; his whole body went in, and was mangled.</a:t>
            </a:r>
            <a:endParaRPr b="0" lang="en-US" sz="2400" spc="-1" strike="noStrike">
              <a:solidFill>
                <a:srgbClr val="ffffff"/>
              </a:solidFill>
              <a:latin typeface="Arial"/>
            </a:endParaRPr>
          </a:p>
        </p:txBody>
      </p:sp>
      <p:pic>
        <p:nvPicPr>
          <p:cNvPr id="1077" name="Picture 3" descr=""/>
          <p:cNvPicPr/>
          <p:nvPr/>
        </p:nvPicPr>
        <p:blipFill>
          <a:blip r:embed="rId1"/>
          <a:stretch/>
        </p:blipFill>
        <p:spPr>
          <a:xfrm>
            <a:off x="5786280" y="642960"/>
            <a:ext cx="2571840" cy="2617920"/>
          </a:xfrm>
          <a:prstGeom prst="rect">
            <a:avLst/>
          </a:prstGeom>
          <a:ln w="0">
            <a:noFill/>
          </a:ln>
        </p:spPr>
      </p:pic>
      <p:sp>
        <p:nvSpPr>
          <p:cNvPr id="1078" name="TextBox 4"/>
          <p:cNvSpPr/>
          <p:nvPr/>
        </p:nvSpPr>
        <p:spPr>
          <a:xfrm>
            <a:off x="5572080" y="3500280"/>
            <a:ext cx="29289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John Allett started working in a textile factory when he was 14 years old.  Opposite is part of an interview that he took part in the House of Commons in 183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
          <p:cNvSpPr/>
          <p:nvPr/>
        </p:nvSpPr>
        <p:spPr>
          <a:xfrm>
            <a:off x="3714840" y="500040"/>
            <a:ext cx="5143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A girl named Mary Richards, who was thought remarkably handsome when she left the workhouse, and, who was not quite ten years of age, attended a drawing frame, below which, and about a foot from the floor, was a horizontal shaft, by which the frames above were turned. It happened one evening, when her apron was caught by the shaft. In an instant the poor girl was drawn by an irresistible force and dashed on the floor. She uttered the most heart-rending shrieks! Blincoe ran towards her, an agonized and helpless beholder of a scene of horror. </a:t>
            </a:r>
            <a:endParaRPr b="0" lang="en-US" sz="2400" spc="-1" strike="noStrike">
              <a:solidFill>
                <a:srgbClr val="ffffff"/>
              </a:solidFill>
              <a:latin typeface="Arial"/>
            </a:endParaRPr>
          </a:p>
        </p:txBody>
      </p:sp>
      <p:pic>
        <p:nvPicPr>
          <p:cNvPr id="1080" name="Picture 2" descr=""/>
          <p:cNvPicPr/>
          <p:nvPr/>
        </p:nvPicPr>
        <p:blipFill>
          <a:blip r:embed="rId1"/>
          <a:stretch/>
        </p:blipFill>
        <p:spPr>
          <a:xfrm>
            <a:off x="142920" y="785880"/>
            <a:ext cx="334944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3000240" y="142920"/>
            <a:ext cx="59295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He saw her whirled round and round with the shaft - he heard the bones of her arms, legs, thighs, etc. successively snap asunder, crushed, seemingly, to atoms, as the machinery whirled her round, and drew tighter and tighter her body within the works, her blood was scattered over the frame and streamed upon the floor, her head appeared dashed to pieces - at last, her mangled body was jammed in so fast, between the shafts and the floor, that the water being low and the wheels off the gear, it stopped the main shaft. When she was extricated, every bone was found broken - her head dreadfully crushed. She was carried off quite lifeless.</a:t>
            </a:r>
            <a:endParaRPr b="0" lang="en-US" sz="2400" spc="-1" strike="noStrike">
              <a:solidFill>
                <a:srgbClr val="ffffff"/>
              </a:solidFill>
              <a:latin typeface="Arial"/>
            </a:endParaRPr>
          </a:p>
        </p:txBody>
      </p:sp>
      <p:sp>
        <p:nvSpPr>
          <p:cNvPr id="1082" name="TextBox 4"/>
          <p:cNvSpPr/>
          <p:nvPr/>
        </p:nvSpPr>
        <p:spPr>
          <a:xfrm>
            <a:off x="142920" y="500040"/>
            <a:ext cx="26431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Arial"/>
              </a:rPr>
              <a:t>Q. Using the information from the previous couple of sources and from your knowledge, write in </a:t>
            </a:r>
            <a:r>
              <a:rPr b="1" lang="en-GB" sz="2400" spc="-1" strike="noStrike">
                <a:solidFill>
                  <a:srgbClr val="ffff00"/>
                </a:solidFill>
                <a:latin typeface="Arial"/>
                <a:ea typeface="Arial"/>
              </a:rPr>
              <a:t>YOUR OWN WORDS </a:t>
            </a:r>
            <a:r>
              <a:rPr b="0" lang="en-GB" sz="2400" spc="-1" strike="noStrike">
                <a:solidFill>
                  <a:srgbClr val="ffff00"/>
                </a:solidFill>
                <a:latin typeface="Arial"/>
                <a:ea typeface="Arial"/>
              </a:rPr>
              <a:t>a short paragraph describing the accidents that took place in the fac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132" dur="2000"/>
                                        <p:tgtEl>
                                          <p:spTgt spid="10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357120" y="2000160"/>
            <a:ext cx="457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In 1842 a German visitor noted that he had seen so many people in the streets of Manchester without arms and legs that it was like "living in the midst of the army just returned from a campaign."</a:t>
            </a:r>
            <a:endParaRPr b="0" lang="en-US" sz="2800" spc="-1" strike="noStrike">
              <a:solidFill>
                <a:srgbClr val="ffffff"/>
              </a:solidFill>
              <a:latin typeface="Arial"/>
            </a:endParaRPr>
          </a:p>
        </p:txBody>
      </p:sp>
      <p:sp>
        <p:nvSpPr>
          <p:cNvPr id="1084" name="TextBox 2"/>
          <p:cNvSpPr/>
          <p:nvPr/>
        </p:nvSpPr>
        <p:spPr>
          <a:xfrm>
            <a:off x="357120" y="285840"/>
            <a:ext cx="507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ccidents in the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 visitor’s observation:</a:t>
            </a:r>
            <a:endParaRPr b="0" lang="en-US" sz="2800" spc="-1" strike="noStrike">
              <a:solidFill>
                <a:srgbClr val="ffffff"/>
              </a:solidFill>
              <a:latin typeface="Arial"/>
            </a:endParaRPr>
          </a:p>
        </p:txBody>
      </p:sp>
      <p:sp>
        <p:nvSpPr>
          <p:cNvPr id="1085" name="TextBox 3"/>
          <p:cNvSpPr/>
          <p:nvPr/>
        </p:nvSpPr>
        <p:spPr>
          <a:xfrm>
            <a:off x="5286240" y="1500120"/>
            <a:ext cx="3286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TA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If you stayed in Manchester in 1842, would you be proud of the scene that this German visitor was faced wit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hat do you think caused the injuries to all th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1424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omic Sans MS"/>
              </a:rPr>
              <a:t>Your Task</a:t>
            </a:r>
            <a:endParaRPr b="0" lang="en-US" sz="4400" spc="-1" strike="noStrike">
              <a:solidFill>
                <a:srgbClr val="000000"/>
              </a:solidFill>
              <a:latin typeface="Times New Roman"/>
            </a:endParaRPr>
          </a:p>
        </p:txBody>
      </p:sp>
      <p:sp>
        <p:nvSpPr>
          <p:cNvPr id="1040" name=""/>
          <p:cNvSpPr txBox="1"/>
          <p:nvPr/>
        </p:nvSpPr>
        <p:spPr>
          <a:xfrm>
            <a:off x="142560" y="1500120"/>
            <a:ext cx="8715240" cy="5143680"/>
          </a:xfrm>
          <a:prstGeom prst="rect">
            <a:avLst/>
          </a:prstGeom>
          <a:noFill/>
          <a:ln w="0">
            <a:noFill/>
          </a:ln>
        </p:spPr>
        <p:txBody>
          <a:bodyPr anchor="t">
            <a:normAutofit/>
          </a:bodyPr>
          <a:p>
            <a:pPr marL="343080" indent="-34308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s a Newspaper reporter it is going to be your job to investigate claims that these factories are using child workers. You also need to write a newspaper article on:</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
            </a:r>
            <a:r>
              <a:rPr b="0" lang="en-GB" sz="1800" spc="-1" strike="noStrike">
                <a:solidFill>
                  <a:srgbClr val="ff0000"/>
                </a:solidFill>
                <a:latin typeface="Comic Sans MS"/>
              </a:rPr>
              <a:t>The conditions in factories for Children’ </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help you with writing this report you will need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Look at the sources A-E and consider what each source tells us abou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Jobs children di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Accidents which often happen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Punishments children fac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Food children were give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Hours children work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 Begin writing your newspaper article by thinking of a good heading and detailing what your investigation of the sources has fou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 Prepare a list of questions for a factory owner. As part of the report you will also be able to interview a leading Factory Owner (The Teacher) about your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
          <p:cNvSpPr/>
          <p:nvPr/>
        </p:nvSpPr>
        <p:spPr>
          <a:xfrm>
            <a:off x="285840" y="1314360"/>
            <a:ext cx="5715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The shift from working at home to factories brought with it a new system of working. Factory owners sought to control and discipline their workforce through a system of: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ng working hour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Fine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w wages.</a:t>
            </a:r>
            <a:endParaRPr b="0" lang="en-US" sz="2800" spc="-1" strike="noStrike">
              <a:solidFill>
                <a:srgbClr val="ffffff"/>
              </a:solidFill>
              <a:latin typeface="Arial"/>
            </a:endParaRPr>
          </a:p>
        </p:txBody>
      </p:sp>
      <p:sp>
        <p:nvSpPr>
          <p:cNvPr id="1042" name="TextBox 2"/>
          <p:cNvSpPr/>
          <p:nvPr/>
        </p:nvSpPr>
        <p:spPr>
          <a:xfrm>
            <a:off x="4286160" y="3597120"/>
            <a:ext cx="4214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Q. What changes took place to the life of worker’s when the Industrial Revolution changed the working lives of many people from the domestic system to the factory system?</a:t>
            </a:r>
            <a:endParaRPr b="0" lang="en-US" sz="2400" spc="-1" strike="noStrike">
              <a:solidFill>
                <a:srgbClr val="ffffff"/>
              </a:solidFill>
              <a:latin typeface="Arial"/>
            </a:endParaRPr>
          </a:p>
        </p:txBody>
      </p:sp>
      <p:sp>
        <p:nvSpPr>
          <p:cNvPr id="1043" name="TextBox 3"/>
          <p:cNvSpPr/>
          <p:nvPr/>
        </p:nvSpPr>
        <p:spPr>
          <a:xfrm>
            <a:off x="357120" y="214200"/>
            <a:ext cx="8072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ea typeface="Arial"/>
              </a:rPr>
              <a:t>Domestic to Factory S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7" dur="2000"/>
                                        <p:tgtEl>
                                          <p:spTgt spid="104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10" dur="2000"/>
                                        <p:tgtEl>
                                          <p:spTgt spid="104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041">
                                            <p:txEl>
                                              <p:pRg st="3" end="3"/>
                                            </p:txEl>
                                          </p:spTgt>
                                        </p:tgtEl>
                                        <p:attrNameLst>
                                          <p:attrName>style.visibility</p:attrName>
                                        </p:attrNameLst>
                                      </p:cBhvr>
                                      <p:to>
                                        <p:strVal val="visible"/>
                                      </p:to>
                                    </p:set>
                                    <p:animEffect filter="fade" transition="in">
                                      <p:cBhvr additive="repl">
                                        <p:cTn id="13" dur="2000"/>
                                        <p:tgtEl>
                                          <p:spTgt spid="1041">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1041">
                                            <p:txEl>
                                              <p:pRg st="4" end="4"/>
                                            </p:txEl>
                                          </p:spTgt>
                                        </p:tgtEl>
                                        <p:attrNameLst>
                                          <p:attrName>style.visibility</p:attrName>
                                        </p:attrNameLst>
                                      </p:cBhvr>
                                      <p:to>
                                        <p:strVal val="visible"/>
                                      </p:to>
                                    </p:set>
                                    <p:animEffect filter="fade" transition="in">
                                      <p:cBhvr additive="repl">
                                        <p:cTn id="16" dur="2000"/>
                                        <p:tgtEl>
                                          <p:spTgt spid="1041">
                                            <p:txEl>
                                              <p:pRg st="4" end="4"/>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42">
                                            <p:txEl>
                                              <p:pRg st="0" end="0"/>
                                            </p:txEl>
                                          </p:spTgt>
                                        </p:tgtEl>
                                        <p:attrNameLst>
                                          <p:attrName>style.visibility</p:attrName>
                                        </p:attrNameLst>
                                      </p:cBhvr>
                                      <p:to>
                                        <p:strVal val="visible"/>
                                      </p:to>
                                    </p:set>
                                    <p:animEffect filter="fade" transition="in">
                                      <p:cBhvr additive="repl">
                                        <p:cTn id="21" dur="2000"/>
                                        <p:tgtEl>
                                          <p:spTgt spid="10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1"/>
          <p:cNvSpPr/>
          <p:nvPr/>
        </p:nvSpPr>
        <p:spPr>
          <a:xfrm>
            <a:off x="214200" y="2858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ea typeface="Arial"/>
              </a:rPr>
              <a:t>Factory Working Conditions</a:t>
            </a:r>
            <a:endParaRPr b="0" lang="en-US" sz="3200" spc="-1" strike="noStrike">
              <a:solidFill>
                <a:srgbClr val="ffffff"/>
              </a:solidFill>
              <a:latin typeface="Arial"/>
            </a:endParaRPr>
          </a:p>
        </p:txBody>
      </p:sp>
      <p:sp>
        <p:nvSpPr>
          <p:cNvPr id="1045" name="TextBox 7"/>
          <p:cNvSpPr/>
          <p:nvPr/>
        </p:nvSpPr>
        <p:spPr>
          <a:xfrm>
            <a:off x="428760" y="928800"/>
            <a:ext cx="8286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ng working hours</a:t>
            </a:r>
            <a:r>
              <a:rPr b="0" lang="en-GB" sz="3200" spc="-1" strike="noStrike">
                <a:solidFill>
                  <a:srgbClr val="ffffff"/>
                </a:solidFill>
                <a:latin typeface="Calibri"/>
                <a:ea typeface="Arial"/>
              </a:rPr>
              <a:t> – normal shifts were recorded as </a:t>
            </a:r>
            <a:r>
              <a:rPr b="1" lang="en-GB" sz="3200" spc="-1" strike="noStrike">
                <a:solidFill>
                  <a:srgbClr val="ffffff"/>
                </a:solidFill>
                <a:latin typeface="Calibri"/>
                <a:ea typeface="Arial"/>
              </a:rPr>
              <a:t>12 to 14 hours a da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w wages</a:t>
            </a:r>
            <a:r>
              <a:rPr b="0" lang="en-GB" sz="3200" spc="-1" strike="noStrike">
                <a:solidFill>
                  <a:srgbClr val="ffffff"/>
                </a:solidFill>
                <a:latin typeface="Calibri"/>
                <a:ea typeface="Arial"/>
              </a:rPr>
              <a:t> –15 shillings (75p) a week.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Women and children were paid much lower wages, with women earning 7 shillings (35p) and children 3 shillings (15p).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TextBox 9"/>
          <p:cNvSpPr/>
          <p:nvPr/>
        </p:nvSpPr>
        <p:spPr>
          <a:xfrm>
            <a:off x="428760" y="500076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o do you think that factory owners would prefer to employ in their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this could cause any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45">
                                            <p:txEl>
                                              <p:pRg st="0" end="0"/>
                                            </p:txEl>
                                          </p:spTgt>
                                        </p:tgtEl>
                                        <p:attrNameLst>
                                          <p:attrName>style.visibility</p:attrName>
                                        </p:attrNameLst>
                                      </p:cBhvr>
                                      <p:to>
                                        <p:strVal val="visible"/>
                                      </p:to>
                                    </p:set>
                                    <p:animEffect filter="fade" transition="in">
                                      <p:cBhvr additive="repl">
                                        <p:cTn id="28" dur="2000"/>
                                        <p:tgtEl>
                                          <p:spTgt spid="104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33" dur="2000"/>
                                        <p:tgtEl>
                                          <p:spTgt spid="1045">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38" dur="2000"/>
                                        <p:tgtEl>
                                          <p:spTgt spid="1045">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43" dur="2000"/>
                                        <p:tgtEl>
                                          <p:spTgt spid="104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046">
                                            <p:txEl>
                                              <p:pRg st="1" end="1"/>
                                            </p:txEl>
                                          </p:spTgt>
                                        </p:tgtEl>
                                        <p:attrNameLst>
                                          <p:attrName>style.visibility</p:attrName>
                                        </p:attrNameLst>
                                      </p:cBhvr>
                                      <p:to>
                                        <p:strVal val="visible"/>
                                      </p:to>
                                    </p:set>
                                    <p:animEffect filter="fade" transition="in">
                                      <p:cBhvr additive="repl">
                                        <p:cTn id="46" dur="2000"/>
                                        <p:tgtEl>
                                          <p:spTgt spid="10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
          <p:cNvSpPr/>
          <p:nvPr/>
        </p:nvSpPr>
        <p:spPr>
          <a:xfrm>
            <a:off x="500040" y="1155600"/>
            <a:ext cx="800100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Cruel discipline</a:t>
            </a:r>
            <a:r>
              <a:rPr b="0" lang="en-GB" sz="2400" spc="-1" strike="noStrike">
                <a:solidFill>
                  <a:srgbClr val="ffffff"/>
                </a:solidFill>
                <a:latin typeface="Calibri"/>
                <a:ea typeface="Arial"/>
              </a:rPr>
              <a:t> – frequent ‘strapping’ (it was claimed that children had been thrashed to death).</a:t>
            </a:r>
            <a:endParaRPr b="0" lang="en-US" sz="2400" spc="-1" strike="noStrike">
              <a:solidFill>
                <a:srgbClr val="ffffff"/>
              </a:solidFill>
              <a:latin typeface="Arial"/>
            </a:endParaRPr>
          </a:p>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Women and children were easily bullied.</a:t>
            </a:r>
            <a:r>
              <a:rPr b="0" lang="en-GB" sz="2400" spc="-1" strike="noStrike">
                <a:solidFill>
                  <a:srgbClr val="ffffff"/>
                </a:solidFill>
                <a:latin typeface="Calibri"/>
                <a:ea typeface="Arial"/>
              </a:rPr>
              <a:t> One witness claimed that he had seen an iron bar driven through the cheek of one girl. Other alleged punishments included hanging iron weights around children’s necks, hanging them from the roof in baskets, nailing a child’s ear to the table, and dowsing them in water butts to keep them awake. </a:t>
            </a:r>
            <a:endParaRPr b="0" lang="en-US" sz="2400" spc="-1" strike="noStrike">
              <a:solidFill>
                <a:srgbClr val="ffffff"/>
              </a:solidFill>
              <a:latin typeface="Arial"/>
            </a:endParaRPr>
          </a:p>
        </p:txBody>
      </p:sp>
      <p:sp>
        <p:nvSpPr>
          <p:cNvPr id="1048" name="Rectangle 2"/>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49" name="TextBox 3"/>
          <p:cNvSpPr/>
          <p:nvPr/>
        </p:nvSpPr>
        <p:spPr>
          <a:xfrm>
            <a:off x="500040" y="4613400"/>
            <a:ext cx="7929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at was the treatment like for the workers in factories? – describe two typ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it was a fair way to treat the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47">
                                            <p:txEl>
                                              <p:pRg st="0" end="0"/>
                                            </p:txEl>
                                          </p:spTgt>
                                        </p:tgtEl>
                                        <p:attrNameLst>
                                          <p:attrName>style.visibility</p:attrName>
                                        </p:attrNameLst>
                                      </p:cBhvr>
                                      <p:to>
                                        <p:strVal val="visible"/>
                                      </p:to>
                                    </p:set>
                                    <p:animEffect filter="fade" transition="in">
                                      <p:cBhvr additive="repl">
                                        <p:cTn id="53" dur="2000"/>
                                        <p:tgtEl>
                                          <p:spTgt spid="104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47">
                                            <p:txEl>
                                              <p:pRg st="1" end="1"/>
                                            </p:txEl>
                                          </p:spTgt>
                                        </p:tgtEl>
                                        <p:attrNameLst>
                                          <p:attrName>style.visibility</p:attrName>
                                        </p:attrNameLst>
                                      </p:cBhvr>
                                      <p:to>
                                        <p:strVal val="visible"/>
                                      </p:to>
                                    </p:set>
                                    <p:animEffect filter="fade" transition="in">
                                      <p:cBhvr additive="repl">
                                        <p:cTn id="58" dur="2000"/>
                                        <p:tgtEl>
                                          <p:spTgt spid="104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63" dur="2000"/>
                                        <p:tgtEl>
                                          <p:spTgt spid="1049">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1049">
                                            <p:txEl>
                                              <p:pRg st="1" end="1"/>
                                            </p:txEl>
                                          </p:spTgt>
                                        </p:tgtEl>
                                        <p:attrNameLst>
                                          <p:attrName>style.visibility</p:attrName>
                                        </p:attrNameLst>
                                      </p:cBhvr>
                                      <p:to>
                                        <p:strVal val="visible"/>
                                      </p:to>
                                    </p:set>
                                    <p:animEffect filter="fade" transition="in">
                                      <p:cBhvr additive="repl">
                                        <p:cTn id="66" dur="2000"/>
                                        <p:tgtEl>
                                          <p:spTgt spid="10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2"/>
          <p:cNvSpPr/>
          <p:nvPr/>
        </p:nvSpPr>
        <p:spPr>
          <a:xfrm>
            <a:off x="285840" y="10317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3. </a:t>
            </a:r>
            <a:r>
              <a:rPr b="1" lang="en-GB" sz="2400" spc="-1" strike="noStrike">
                <a:solidFill>
                  <a:srgbClr val="ffff00"/>
                </a:solidFill>
                <a:latin typeface="Calibri"/>
                <a:ea typeface="Arial"/>
              </a:rPr>
              <a:t>Fierce systems of fines </a:t>
            </a:r>
            <a:r>
              <a:rPr b="0" lang="en-GB" sz="2400" spc="-1" strike="noStrike">
                <a:solidFill>
                  <a:srgbClr val="ffff00"/>
                </a:solidFill>
                <a:latin typeface="Calibri"/>
                <a:ea typeface="Arial"/>
              </a:rPr>
              <a:t>– fines were imposed for things like talking or whistling, leaving the room without permission, of having a little dirt on a mach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4. </a:t>
            </a:r>
            <a:r>
              <a:rPr b="1" lang="en-GB" sz="2400" spc="-1" strike="noStrike">
                <a:solidFill>
                  <a:srgbClr val="ffff00"/>
                </a:solidFill>
                <a:latin typeface="Calibri"/>
                <a:ea typeface="Arial"/>
              </a:rPr>
              <a:t>Deformities </a:t>
            </a:r>
            <a:r>
              <a:rPr b="0" lang="en-GB" sz="2400" spc="-1" strike="noStrike">
                <a:solidFill>
                  <a:srgbClr val="ffff00"/>
                </a:solidFill>
                <a:latin typeface="Calibri"/>
                <a:ea typeface="Arial"/>
              </a:rPr>
              <a:t>– many children who were forced to stand for long hours grew up with conditions such as knock-knees and bow leg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1" name="Rectangle 3"/>
          <p:cNvSpPr/>
          <p:nvPr/>
        </p:nvSpPr>
        <p:spPr>
          <a:xfrm>
            <a:off x="811440" y="21420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Arial"/>
              </a:rPr>
              <a:t>Factory Working Conditions</a:t>
            </a:r>
            <a:endParaRPr b="0" lang="en-US" sz="3600" spc="-1" strike="noStrike">
              <a:solidFill>
                <a:srgbClr val="ffffff"/>
              </a:solidFill>
              <a:latin typeface="Arial"/>
            </a:endParaRPr>
          </a:p>
        </p:txBody>
      </p:sp>
      <p:pic>
        <p:nvPicPr>
          <p:cNvPr id="1052" name="Picture 2" descr="C:\Users\Ewan\Documents\PGDE History General\Placements\Placement 1 (St Columbas RCHS, Perth)\Placement 1\Placement 1 (St Columbas RCHS, Perth)\S3 - Housing\rickets.jpg"/>
          <p:cNvPicPr/>
          <p:nvPr/>
        </p:nvPicPr>
        <p:blipFill>
          <a:blip r:embed="rId1"/>
          <a:stretch/>
        </p:blipFill>
        <p:spPr>
          <a:xfrm>
            <a:off x="6215040" y="1285920"/>
            <a:ext cx="2724120" cy="4319640"/>
          </a:xfrm>
          <a:prstGeom prst="rect">
            <a:avLst/>
          </a:prstGeom>
          <a:ln w="0">
            <a:noFill/>
          </a:ln>
        </p:spPr>
      </p:pic>
      <p:sp>
        <p:nvSpPr>
          <p:cNvPr id="1053" name="TextBox 4"/>
          <p:cNvSpPr/>
          <p:nvPr/>
        </p:nvSpPr>
        <p:spPr>
          <a:xfrm>
            <a:off x="142920" y="5000760"/>
            <a:ext cx="592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Do you think that worker’s today are treated different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73" dur="2000"/>
                                        <p:tgtEl>
                                          <p:spTgt spid="1050">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78" dur="2000"/>
                                        <p:tgtEl>
                                          <p:spTgt spid="1050">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52"/>
                                        </p:tgtEl>
                                        <p:attrNameLst>
                                          <p:attrName>style.visibility</p:attrName>
                                        </p:attrNameLst>
                                      </p:cBhvr>
                                      <p:to>
                                        <p:strVal val="visible"/>
                                      </p:to>
                                    </p:set>
                                    <p:animEffect filter="fade" transition="in">
                                      <p:cBhvr additive="repl">
                                        <p:cTn id="83" dur="2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1"/>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55" name="TextBox 2"/>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d5b5"/>
                </a:solidFill>
                <a:latin typeface="Calibri"/>
              </a:rPr>
              <a:t>5. Accidents</a:t>
            </a:r>
            <a:r>
              <a:rPr b="0" lang="en-GB" sz="2400" spc="-1" strike="noStrike">
                <a:solidFill>
                  <a:srgbClr val="fcd5b5"/>
                </a:solidFill>
                <a:latin typeface="Calibri"/>
              </a:rPr>
              <a:t> – children were forced to crawl into dangerous, unguarded machinery – often when they were so tired they were falling asleep on their fe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6. </a:t>
            </a:r>
            <a:r>
              <a:rPr b="1" lang="en-GB" sz="2400" spc="-1" strike="noStrike">
                <a:solidFill>
                  <a:srgbClr val="fcd5b5"/>
                </a:solidFill>
                <a:latin typeface="Calibri"/>
              </a:rPr>
              <a:t>Health</a:t>
            </a:r>
            <a:r>
              <a:rPr b="0" lang="en-GB" sz="2400" spc="-1" strike="noStrike">
                <a:solidFill>
                  <a:srgbClr val="fcd5b5"/>
                </a:solidFill>
                <a:latin typeface="Calibri"/>
              </a:rPr>
              <a:t> – cotton thread had to be spun in damp conditions at 70ºF. Going straight out into the cold night air led to </a:t>
            </a:r>
            <a:r>
              <a:rPr b="1" lang="en-GB" sz="2400" spc="-1" strike="noStrike">
                <a:solidFill>
                  <a:srgbClr val="fcd5b5"/>
                </a:solidFill>
                <a:latin typeface="Calibri"/>
              </a:rPr>
              <a:t>many cases of pneumonia</a:t>
            </a:r>
            <a:r>
              <a:rPr b="0" lang="en-GB" sz="2400" spc="-1" strike="noStrike">
                <a:solidFill>
                  <a:srgbClr val="fcd5b5"/>
                </a:solidFill>
                <a:latin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The air was full of dust, which led to chest and lung diseases and loud noise made by machines damaged workers' hearing.</a:t>
            </a:r>
            <a:endParaRPr b="0" lang="en-US" sz="2400" spc="-1" strike="noStrike">
              <a:solidFill>
                <a:srgbClr val="ffffff"/>
              </a:solidFill>
              <a:latin typeface="Arial"/>
            </a:endParaRPr>
          </a:p>
        </p:txBody>
      </p:sp>
      <p:pic>
        <p:nvPicPr>
          <p:cNvPr id="1056" name="Picture 3" descr="working conditions.bmp"/>
          <p:cNvPicPr/>
          <p:nvPr/>
        </p:nvPicPr>
        <p:blipFill>
          <a:blip r:embed="rId1"/>
          <a:stretch/>
        </p:blipFill>
        <p:spPr>
          <a:xfrm>
            <a:off x="3786120" y="4714920"/>
            <a:ext cx="4786560" cy="19670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90" dur="2000"/>
                                        <p:tgtEl>
                                          <p:spTgt spid="105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95" dur="2000"/>
                                        <p:tgtEl>
                                          <p:spTgt spid="105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100" dur="2000"/>
                                        <p:tgtEl>
                                          <p:spTgt spid="105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56"/>
                                        </p:tgtEl>
                                        <p:attrNameLst>
                                          <p:attrName>style.visibility</p:attrName>
                                        </p:attrNameLst>
                                      </p:cBhvr>
                                      <p:to>
                                        <p:strVal val="visible"/>
                                      </p:to>
                                    </p:set>
                                    <p:animEffect filter="fade" transition="in">
                                      <p:cBhvr additive="repl">
                                        <p:cTn id="105" dur="20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3"/>
          <p:cNvSpPr/>
          <p:nvPr/>
        </p:nvSpPr>
        <p:spPr>
          <a:xfrm>
            <a:off x="214200" y="285840"/>
            <a:ext cx="407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ife in the factory...</a:t>
            </a:r>
            <a:endParaRPr b="0" lang="en-US" sz="2800" spc="-1" strike="noStrike">
              <a:solidFill>
                <a:srgbClr val="ffffff"/>
              </a:solidFill>
              <a:latin typeface="Arial"/>
            </a:endParaRPr>
          </a:p>
        </p:txBody>
      </p:sp>
      <p:sp>
        <p:nvSpPr>
          <p:cNvPr id="1058" name="TextBox 5"/>
          <p:cNvSpPr/>
          <p:nvPr/>
        </p:nvSpPr>
        <p:spPr>
          <a:xfrm>
            <a:off x="357120" y="928800"/>
            <a:ext cx="49291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a:t>
            </a:r>
            <a:r>
              <a:rPr b="0" i="1" lang="en-GB" sz="2800" spc="-1" strike="noStrike">
                <a:solidFill>
                  <a:srgbClr val="ffffff"/>
                </a:solidFill>
                <a:latin typeface="Calibri"/>
                <a:ea typeface="Arial"/>
              </a:rPr>
              <a:t>I worked from five in the morning till nine at night. I lived two miles from the mill. We had no clock. If I had been too late at the mill, I would have been quartered. I mean that if I had been a quarter of an hour too late, a half an hour would have been taken off. I only got a penny an hour, and they would have taken a halfpenny.”</a:t>
            </a:r>
            <a:endParaRPr b="0" lang="en-US" sz="2800" spc="-1" strike="noStrike">
              <a:solidFill>
                <a:srgbClr val="ffffff"/>
              </a:solidFill>
              <a:latin typeface="Arial"/>
            </a:endParaRPr>
          </a:p>
        </p:txBody>
      </p:sp>
      <p:pic>
        <p:nvPicPr>
          <p:cNvPr id="1059" name="Picture 2" descr=""/>
          <p:cNvPicPr/>
          <p:nvPr/>
        </p:nvPicPr>
        <p:blipFill>
          <a:blip r:embed="rId1"/>
          <a:stretch/>
        </p:blipFill>
        <p:spPr>
          <a:xfrm>
            <a:off x="5786280" y="942840"/>
            <a:ext cx="2786400" cy="3643560"/>
          </a:xfrm>
          <a:prstGeom prst="rect">
            <a:avLst/>
          </a:prstGeom>
          <a:ln w="0">
            <a:noFill/>
          </a:ln>
        </p:spPr>
      </p:pic>
      <p:sp>
        <p:nvSpPr>
          <p:cNvPr id="1060" name="TextBox 7"/>
          <p:cNvSpPr/>
          <p:nvPr/>
        </p:nvSpPr>
        <p:spPr>
          <a:xfrm>
            <a:off x="5357880" y="4657680"/>
            <a:ext cx="3571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Calibri"/>
                <a:ea typeface="Arial"/>
              </a:rPr>
              <a:t>Elizabeth Bentley, born in Leeds in 1809, started working in a mill aged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Box 3"/>
          <p:cNvSpPr/>
          <p:nvPr/>
        </p:nvSpPr>
        <p:spPr>
          <a:xfrm>
            <a:off x="357120" y="285840"/>
            <a:ext cx="4714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I worked at Mr. Braid's Mill at Duntruin. We worked as long as we could see. I could not say at what hour we stopped. There was no clock in the mill. There was nobody but the master and the master's son had a watch and so we did not know the time. The operatives were not permitted to have a watch. There was one man who had a watch but it was taken from him because he told the men the time. </a:t>
            </a:r>
            <a:endParaRPr b="0" lang="en-US" sz="2400" spc="-1" strike="noStrike">
              <a:solidFill>
                <a:srgbClr val="ffffff"/>
              </a:solidFill>
              <a:latin typeface="Arial"/>
            </a:endParaRPr>
          </a:p>
        </p:txBody>
      </p:sp>
      <p:pic>
        <p:nvPicPr>
          <p:cNvPr id="1062" name="Picture 3" descr=""/>
          <p:cNvPicPr/>
          <p:nvPr/>
        </p:nvPicPr>
        <p:blipFill>
          <a:blip r:embed="rId1"/>
          <a:stretch/>
        </p:blipFill>
        <p:spPr>
          <a:xfrm>
            <a:off x="6143760" y="785880"/>
            <a:ext cx="2104920" cy="3286080"/>
          </a:xfrm>
          <a:prstGeom prst="rect">
            <a:avLst/>
          </a:prstGeom>
          <a:ln w="0">
            <a:noFill/>
          </a:ln>
        </p:spPr>
      </p:pic>
      <p:sp>
        <p:nvSpPr>
          <p:cNvPr id="1063" name="TextBox 5"/>
          <p:cNvSpPr/>
          <p:nvPr/>
        </p:nvSpPr>
        <p:spPr>
          <a:xfrm>
            <a:off x="6000840" y="4429080"/>
            <a:ext cx="2357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William Hutton, born 1723 in Derby.  Started working in a silk mill aged 7.</a:t>
            </a:r>
            <a:endParaRPr b="0" lang="en-US" sz="2000" spc="-1" strike="noStrike">
              <a:solidFill>
                <a:srgbClr val="ffffff"/>
              </a:solidFill>
              <a:latin typeface="Arial"/>
            </a:endParaRPr>
          </a:p>
        </p:txBody>
      </p:sp>
      <p:sp>
        <p:nvSpPr>
          <p:cNvPr id="1064" name="TextBox 6"/>
          <p:cNvSpPr/>
          <p:nvPr/>
        </p:nvSpPr>
        <p:spPr>
          <a:xfrm>
            <a:off x="142920" y="4929120"/>
            <a:ext cx="542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Q. Write a short paragraph describing the importance of time to mill and factory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064">
                                            <p:txEl>
                                              <p:pRg st="0" end="0"/>
                                            </p:txEl>
                                          </p:spTgt>
                                        </p:tgtEl>
                                        <p:attrNameLst>
                                          <p:attrName>style.visibility</p:attrName>
                                        </p:attrNameLst>
                                      </p:cBhvr>
                                      <p:to>
                                        <p:strVal val="visible"/>
                                      </p:to>
                                    </p:set>
                                    <p:animEffect filter="fade" transition="in">
                                      <p:cBhvr additive="repl">
                                        <p:cTn id="112" dur="2000"/>
                                        <p:tgtEl>
                                          <p:spTgt spid="10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59:45Z</dcterms:created>
  <dc:creator>Ewan</dc:creator>
  <dc:description/>
  <dc:language>en-US</dc:language>
  <cp:lastModifiedBy>Short, L (SHS Teacher)</cp:lastModifiedBy>
  <dcterms:modified xsi:type="dcterms:W3CDTF">2018-11-21T17:07:12Z</dcterms:modified>
  <cp:revision>13</cp:revision>
  <dc:subject/>
  <dc:title>Slide 1</dc:title>
</cp:coreProperties>
</file>